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C11-F5B9-4E2E-AD6C-520B35FD2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AC08-3502-46D5-8248-3DB6503C6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F8CB-18C6-4A17-9B73-B6391D5F2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F2FE-14BE-42F5-BE28-FCA484CEE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9ED5-4017-41DA-997C-08A5A2186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EBCC-86C1-4AFE-8829-BC9F2C20E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0ABB-391E-4905-B68E-E75BBEB11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3333-BA21-4A98-8889-FF55D09AE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3D65-03BB-438C-99E1-AD552B1D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340C-4168-4B17-B0A8-9B0A1A418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3DD2-FF4C-4880-924F-44639CEC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6AFE-B1F4-4C08-ADFC-67CD96D5B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3632-359A-4A92-AB8E-6F1A659BF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0C6-D297-4413-97A5-E69E568D4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D19C-3FB7-4C50-A86B-97C9A98E47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6FD1-50DD-4C73-BBE7-1DD728A7D5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F31-6508-4AC3-A90A-7F9DBBBB3F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4471-685C-4DC7-9FDE-3E1C54B968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Features of our Camp Learning Wall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7000"/>
          </a:bodyPr>
          <a:p>
            <a:pPr marL="37116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ey L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om the plenary and breakout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 know I’ve learne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we learned and how we know we’ve learn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mples of Participants’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chor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ngs to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ries of group thinking, list of instructional strategies used, sample resources and learn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2828-BD30-4D05-8F55-3E62D5B62B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think your learning wall was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9DF-4B58-42D8-9020-1723A5427B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4304-0295-4356-A840-411131BD5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8A4-7EC2-494B-A598-32420621AC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020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vernote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028-A00D-4187-B7A2-9B4FDBA0D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7B5-52FC-400F-9141-3A02CBD2BD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07920" y="1133640"/>
            <a:ext cx="7407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8BB-C9CD-439A-A67B-89299805CC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EF8-2661-4238-A4EA-8DF0FE486C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CLIPS, epractice, www.101.qs.com, a selection of video clips or even the Math Campp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83CC-4C27-4B8C-9F21-AC4086CEA3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69C-3041-423C-81A5-6A4EA98910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9D3-6CC6-4583-96E5-511779CEC3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B37-1AEA-4B0F-B4B4-21B653BC0C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A12-9F73-4D16-9361-C3EAF2047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A716-8DD7-4A8C-A5C2-25496F1B18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43E-7D71-4DDF-9E1A-D2B579D69F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90720" y="2057400"/>
            <a:ext cx="7238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t school, only the quality of teacher is a greater determinant of student success than the environment. Environments can be nourishing or toxic, supportive or draining. Environments are never neutral … (Jensen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90720" y="3809880"/>
            <a:ext cx="72388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Managed well, it [a display or learning wall] can create a climate where students feel valued, nurtured and can achieve beyond their potential.  (Andrew-Power &amp; Gormley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0" y="5867280"/>
            <a:ext cx="659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0000"/>
                </a:solidFill>
                <a:uFillTx/>
                <a:latin typeface="Arial"/>
              </a:rPr>
              <a:t>On Display: Wall-to-Wall Learning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 Kirstie Andrew-Power and Charlotte Gormley, Curriculum Briefing, Vol. 5, No. 2, 2007, London, GB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www.teachingexpertise.com/files/Wall%20display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514A-F3A0-4D63-AAFA-84F9158DC4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earning walls can contain any number of a variety of features, but typically include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Key Lear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Learning Outcomes/Goals, Must/Should/C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uccess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Checking My Understanding, How I Know I’ve learned, I am beginning to understand ____________ if I …,  I am developing a deeper understanding of ____________ if I …, I am refining my understanding of ____________ if 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tuden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anchor charts, WALT (We Are Learning To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Things I Need to Re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Word Wall, Formulas, Graphs, Charts,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Key Assessment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types of problems, problems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8D0-FB28-45DC-8CB0-A4783092DB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2T19:48:20Z</dcterms:modified>
  <cp:revision>46</cp:revision>
  <dc:subject/>
  <dc:title>&lt;Title&gt;</dc:title>
</cp:coreProperties>
</file>